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apert.wav" ContentType="audio/x-wav"/>
  <Override PartName="/ppt/media/image15.png" ContentType="image/png"/>
  <Override PartName="/ppt/media/image22.png" ContentType="image/png"/>
  <Override PartName="/ppt/media/image10.png" ContentType="image/png"/>
  <Override PartName="/ppt/media/image33.jpeg" ContentType="image/jpeg"/>
  <Override PartName="/ppt/media/image27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9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26.jpeg" ContentType="image/jpeg"/>
  <Override PartName="/ppt/media/image32.jpeg" ContentType="image/jpeg"/>
  <Override PartName="/ppt/media/image17.png" ContentType="image/png"/>
  <Override PartName="/ppt/media/image18.wmf" ContentType="image/x-wmf"/>
  <Override PartName="/ppt/media/image20.png" ContentType="image/png"/>
  <Override PartName="/ppt/media/image28.jpeg" ContentType="image/jpeg"/>
  <Override PartName="/ppt/media/image21.png" ContentType="image/png"/>
  <Override PartName="/ppt/media/image1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FFC47B-1124-4D5B-950A-79158D268B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79D903-5645-4022-B299-DA8C8A86FCE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A12C4A-3D82-4C0F-BC9C-367A69E4883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oblemi che sono dietro al calcolo della DFS in meomria secon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scrizione dell’algoritm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scrizione dell’algoritm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78691D-8C0B-45BF-AF0A-4CE60348145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FE3848-E47C-4EBD-BF8A-5367F12242A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3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678DB2-962A-4FF6-886F-7B0AD2292C7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75D7F0-924B-4F2F-B259-C104F5E8C25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E10646-18AB-4CB1-8E4F-9D00D9BDED2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A848B0-366D-45E5-82DB-8F9B23E6FCD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E149EA-126C-4756-97FA-89D711E4ECB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AAD0B8-FD08-49AE-BF2C-B3EAF0FA677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1227B0-3F52-4EDA-8C12-281615DECDD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7C3DE9-A10D-4528-B078-B6364104832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7BE13F-3451-405F-8BBB-12379558A82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3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2F3523-F00F-4141-98BB-CFA34D77FB9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opy list permette di eliminare dei nodi dai successori, se uguali a quelli presenti nella lista dei successori del reference node, i rimanenti vengono detti Extra n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i si comprimono le sequenze binarie mediante R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lista degli extra nodes viene ulteriormente compressa, identificando sequenze contigue di ID e si creano intervalli che vengono rappresentati come left,len-2; il left vene codificato come indicato all’inizio (perché può essere negativo) quando si tratta del primo intervallo; gli altri sono codificati come differenza dall’ultimo numero -2, perché altrimenti non ci sarebbe un gap tra due intervalli o tra l’intervallo corrente e un elemento preced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lli che rimangono come singleton, vengono detti residuals, il primo vene codificato rispetto alla source (sempre con la formula che permette di codifiare i negativi), gli altri come differenza rispetto al precedente residual -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3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F64466-8735-4946-9E98-67AED5BA4B2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C9D7E0-BDC5-4E5D-9585-F7ED60A06F4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A44206-1FDD-44E5-84CC-0F329B264AD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1D4-A7C7-44AE-942E-49982988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182-0105-4DD9-8485-C8DADE60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101-978A-4384-BDC4-8126F933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521-F45A-47C5-920A-C4B89EC5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802F-0238-427F-AFB5-B38BDCDB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35DF-966E-4947-9C34-FDACE619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86B4-C778-4452-A323-662E9730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27BD-817D-41EB-AE7D-DE051381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E042-8546-4EA2-B56C-2FC3D436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F5C2-C3D8-45FD-9B6F-DFAF32AC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B596-FE11-400D-A6BB-E9FDE46B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282-0596-4228-A059-C64FDF80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AF6A-9E15-4BD7-ACB4-B1BC8D9D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FF74-D992-4B16-83DD-6EF3D94D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0210-78BC-4249-B645-CE2F7DE6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346F-F779-4C21-875E-BA9A5D53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35AC-5550-4415-BBAA-0F5CD4CE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BEE-1E82-4A8D-967E-7F0C3D88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AB5-BE8A-4EF9-86DE-A6E87CAA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AF3-066A-4FF8-9904-BBE96AC4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8FF-F61C-495F-9242-0571E5A8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0AE-F156-48ED-B86B-5804EA76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E1A-FFAC-426D-8621-1FA601AA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1EAC-A3D9-47C6-8806-4841EE3B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DFE5-461B-4D39-8793-0AED3E505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38C3-981D-484B-98CA-C76FF24C43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audio" Target="../media/apert.wav"/><Relationship Id="rId5" Type="http://schemas.openxmlformats.org/officeDocument/2006/relationships/audio" Target="../media/apert.wav"/><Relationship Id="rId6" Type="http://schemas.openxmlformats.org/officeDocument/2006/relationships/audio" Target="../media/apert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tomtom_go_910_rev"/>
          <p:cNvPicPr/>
          <p:nvPr/>
        </p:nvPicPr>
        <p:blipFill>
          <a:blip r:embed="rId1"/>
          <a:stretch/>
        </p:blipFill>
        <p:spPr>
          <a:xfrm>
            <a:off x="2050920" y="2060640"/>
            <a:ext cx="5042160" cy="3782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075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This is a search engine!!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CasellaDiTesto 1"/>
          <p:cNvSpPr/>
          <p:nvPr/>
        </p:nvSpPr>
        <p:spPr>
          <a:xfrm>
            <a:off x="8847000" y="3232080"/>
            <a:ext cx="185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1.bp.blogspot.com/-nUZ33kaVKL0/UkVlFzbTiqI/AAAAAAAAOA4/gjiWEedxeD8/s1600/Screen+Shot+2013-09-26+at+11.40.10+AM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8"/>
          <p:cNvGrpSpPr/>
          <p:nvPr/>
        </p:nvGrpSpPr>
        <p:grpSpPr>
          <a:xfrm>
            <a:off x="0" y="476280"/>
            <a:ext cx="2987640" cy="6381720"/>
            <a:chOff x="0" y="476280"/>
            <a:chExt cx="2987640" cy="6381720"/>
          </a:xfrm>
        </p:grpSpPr>
        <p:sp>
          <p:nvSpPr>
            <p:cNvPr id="139" name="Rounded Rectangle 5"/>
            <p:cNvSpPr/>
            <p:nvPr/>
          </p:nvSpPr>
          <p:spPr>
            <a:xfrm>
              <a:off x="0" y="836640"/>
              <a:ext cx="2987640" cy="6021360"/>
            </a:xfrm>
            <a:custGeom>
              <a:avLst/>
              <a:gdLst>
                <a:gd name="textAreaLeft" fmla="*/ 145800 w 2987640"/>
                <a:gd name="textAreaRight" fmla="*/ 2841840 w 2987640"/>
                <a:gd name="textAreaTop" fmla="*/ 145800 h 6021360"/>
                <a:gd name="textAreaBottom" fmla="*/ 5875560 h 6021360"/>
              </a:gdLst>
              <a:ahLst/>
              <a:rect l="textAreaLeft" t="textAreaTop" r="textAreaRight" b="textAreaBottom"/>
              <a:pathLst>
                <a:path w="21600" h="43531">
                  <a:moveTo>
                    <a:pt x="3600" y="0"/>
                  </a:moveTo>
                  <a:arcTo wR="3600" hR="3600" stAng="16200000" swAng="-5400000"/>
                  <a:lnTo>
                    <a:pt x="0" y="39931"/>
                  </a:lnTo>
                  <a:arcTo wR="3600" hR="3600" stAng="10800000" swAng="-5400000"/>
                  <a:lnTo>
                    <a:pt x="18000" y="435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7575d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TextBox 7"/>
            <p:cNvSpPr/>
            <p:nvPr/>
          </p:nvSpPr>
          <p:spPr>
            <a:xfrm>
              <a:off x="885960" y="476280"/>
              <a:ext cx="160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262673"/>
                  </a:solidFill>
                  <a:latin typeface="Lucida Sans"/>
                </a:rPr>
                <a:t>II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1" name="Group 10"/>
          <p:cNvGrpSpPr/>
          <p:nvPr/>
        </p:nvGrpSpPr>
        <p:grpSpPr>
          <a:xfrm>
            <a:off x="3132000" y="260280"/>
            <a:ext cx="3816360" cy="5977080"/>
            <a:chOff x="3132000" y="260280"/>
            <a:chExt cx="3816360" cy="5977080"/>
          </a:xfrm>
        </p:grpSpPr>
        <p:sp>
          <p:nvSpPr>
            <p:cNvPr id="142" name="Rounded Rectangle 6"/>
            <p:cNvSpPr/>
            <p:nvPr/>
          </p:nvSpPr>
          <p:spPr>
            <a:xfrm>
              <a:off x="3132000" y="620280"/>
              <a:ext cx="3816360" cy="5617080"/>
            </a:xfrm>
            <a:custGeom>
              <a:avLst/>
              <a:gdLst>
                <a:gd name="textAreaLeft" fmla="*/ 186120 w 3816360"/>
                <a:gd name="textAreaRight" fmla="*/ 3630240 w 3816360"/>
                <a:gd name="textAreaTop" fmla="*/ 186120 h 5617080"/>
                <a:gd name="textAreaBottom" fmla="*/ 5430960 h 5617080"/>
              </a:gdLst>
              <a:ahLst/>
              <a:rect l="textAreaLeft" t="textAreaTop" r="textAreaRight" b="textAreaBottom"/>
              <a:pathLst>
                <a:path w="21600" h="31791">
                  <a:moveTo>
                    <a:pt x="3600" y="0"/>
                  </a:moveTo>
                  <a:arcTo wR="3600" hR="3600" stAng="16200000" swAng="-5400000"/>
                  <a:lnTo>
                    <a:pt x="0" y="28191"/>
                  </a:lnTo>
                  <a:arcTo wR="3600" hR="3600" stAng="10800000" swAng="-5400000"/>
                  <a:lnTo>
                    <a:pt x="18000" y="31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TextBox 9"/>
            <p:cNvSpPr/>
            <p:nvPr/>
          </p:nvSpPr>
          <p:spPr>
            <a:xfrm>
              <a:off x="4408560" y="260280"/>
              <a:ext cx="168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ab7e"/>
                  </a:solidFill>
                  <a:latin typeface="Lucida Sans"/>
                </a:rPr>
                <a:t>III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4" name="Group 12"/>
          <p:cNvGrpSpPr/>
          <p:nvPr/>
        </p:nvGrpSpPr>
        <p:grpSpPr>
          <a:xfrm>
            <a:off x="7164360" y="476280"/>
            <a:ext cx="1800360" cy="4824360"/>
            <a:chOff x="7164360" y="476280"/>
            <a:chExt cx="1800360" cy="4824360"/>
          </a:xfrm>
        </p:grpSpPr>
        <p:sp>
          <p:nvSpPr>
            <p:cNvPr id="145" name="Rounded Rectangle 4"/>
            <p:cNvSpPr/>
            <p:nvPr/>
          </p:nvSpPr>
          <p:spPr>
            <a:xfrm>
              <a:off x="7164360" y="836280"/>
              <a:ext cx="1800360" cy="4464360"/>
            </a:xfrm>
            <a:custGeom>
              <a:avLst/>
              <a:gdLst>
                <a:gd name="textAreaLeft" fmla="*/ 87840 w 1800360"/>
                <a:gd name="textAreaRight" fmla="*/ 1712520 w 1800360"/>
                <a:gd name="textAreaTop" fmla="*/ 87840 h 4464360"/>
                <a:gd name="textAreaBottom" fmla="*/ 4376520 h 4464360"/>
              </a:gdLst>
              <a:ahLst/>
              <a:rect l="textAreaLeft" t="textAreaTop" r="textAreaRight" b="textAreaBottom"/>
              <a:pathLst>
                <a:path w="21600" h="53555">
                  <a:moveTo>
                    <a:pt x="3600" y="0"/>
                  </a:moveTo>
                  <a:arcTo wR="3600" hR="3600" stAng="16200000" swAng="-5400000"/>
                  <a:lnTo>
                    <a:pt x="0" y="49955"/>
                  </a:lnTo>
                  <a:arcTo wR="3600" hR="3600" stAng="10800000" swAng="-5400000"/>
                  <a:lnTo>
                    <a:pt x="18000" y="535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a40508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TextBox 11"/>
            <p:cNvSpPr/>
            <p:nvPr/>
          </p:nvSpPr>
          <p:spPr>
            <a:xfrm>
              <a:off x="7230960" y="476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cc3300"/>
                  </a:solidFill>
                  <a:latin typeface="Lucida Sans"/>
                </a:rPr>
                <a:t>IV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ality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Rounded Rectangle 4"/>
          <p:cNvSpPr/>
          <p:nvPr/>
        </p:nvSpPr>
        <p:spPr>
          <a:xfrm>
            <a:off x="6516720" y="6308640"/>
            <a:ext cx="262728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it good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uments/hou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Average document siz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cy as a function of index siz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ressiveness of the query langu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asures for a search eng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ll of the preceding criteria a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key measure: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user happin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less answers won’t make a user happ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appiness: elusive to meas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mmonest approach is given by the 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relevance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 of search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ow do we measure it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quires 3 element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benchmark document coll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benchmark suite of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binary assessment of eith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Relevan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Irrelevan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or each query-doc pai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valuating an IR syst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Standard benchmark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REC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ational Institute of Standards and Testing (NIST) has run large IR testbed for many yea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ther doc collections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rked by human experts, for each query and for each doc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Relevan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Irrelev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9640" y="5734080"/>
            <a:ext cx="820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On the Web everything is more complicated since we cannot mark the </a:t>
            </a:r>
            <a:r>
              <a:rPr b="0" i="1" lang="en-US" sz="2200" spc="-1" strike="noStrike">
                <a:solidFill>
                  <a:srgbClr val="3333cc"/>
                </a:solidFill>
                <a:latin typeface="Lucida Sans"/>
              </a:rPr>
              <a:t>entire corpus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!!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scenar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76360" y="1700280"/>
            <a:ext cx="6858000" cy="3917160"/>
            <a:chOff x="1476360" y="1700280"/>
            <a:chExt cx="6858000" cy="3917160"/>
          </a:xfrm>
        </p:grpSpPr>
        <p:sp>
          <p:nvSpPr>
            <p:cNvPr id="161" name="Oval 4"/>
            <p:cNvSpPr/>
            <p:nvPr/>
          </p:nvSpPr>
          <p:spPr>
            <a:xfrm>
              <a:off x="2771640" y="1928880"/>
              <a:ext cx="517536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Oval 5"/>
            <p:cNvSpPr/>
            <p:nvPr/>
          </p:nvSpPr>
          <p:spPr>
            <a:xfrm rot="19926600">
              <a:off x="2009520" y="2843280"/>
              <a:ext cx="4495680" cy="18288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2772000" y="444348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Relevant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6200640" y="2386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Retrieve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1476360" y="1700280"/>
              <a:ext cx="685800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1652040" y="17762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trieved that are relevant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junk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Lucida Sans"/>
              </a:rPr>
              <a:t>Precision vs. Recall</a:t>
            </a:r>
            <a:endParaRPr b="0" lang="en-US" sz="3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2482920" y="2720880"/>
            <a:ext cx="51753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Oval 5"/>
          <p:cNvSpPr/>
          <p:nvPr/>
        </p:nvSpPr>
        <p:spPr>
          <a:xfrm rot="19926600">
            <a:off x="1720440" y="3635280"/>
            <a:ext cx="4495680" cy="18288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483280" y="5235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5911920" y="31780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trie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87280" y="2637000"/>
            <a:ext cx="6858000" cy="3809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362960" y="256860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4643280" y="3284640"/>
            <a:ext cx="144720" cy="1296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4859280" y="3284640"/>
            <a:ext cx="144360" cy="1296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5076720" y="3284640"/>
            <a:ext cx="144720" cy="1296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5292720" y="321300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5508720" y="3213000"/>
            <a:ext cx="142920" cy="1152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24360" y="3284640"/>
            <a:ext cx="71640" cy="865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4356000" y="3429000"/>
            <a:ext cx="144720" cy="10796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4067280" y="3500280"/>
            <a:ext cx="144360" cy="100836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Line 18"/>
          <p:cNvSpPr/>
          <p:nvPr/>
        </p:nvSpPr>
        <p:spPr>
          <a:xfrm>
            <a:off x="3780000" y="3645000"/>
            <a:ext cx="71280" cy="720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419640" y="3789360"/>
            <a:ext cx="72720" cy="503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3635280" y="3716280"/>
            <a:ext cx="0" cy="6494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3132000" y="3933720"/>
            <a:ext cx="71640" cy="287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324000" y="1916280"/>
            <a:ext cx="856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Recall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levant that are retrieve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info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compute th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Preci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trieved docs that are relevan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Recal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levant docs that are retrie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P = tp/(tp + fp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R = tp/(tp + f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476360" y="2924280"/>
          <a:ext cx="6172200" cy="1536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main difficul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136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336600"/>
                </a:solidFill>
                <a:latin typeface="Tahoma"/>
              </a:rPr>
              <a:t>Size: 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more than tens of billions of page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Language and encodings:</a:t>
            </a:r>
            <a:r>
              <a:rPr b="0" lang="en-US" sz="21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undreds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istributed authorship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AM, format-less,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ynamic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 one year 35% survive, 20% untouched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Us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Query composition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(2.5 terms avg) and imprec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00"/>
                </a:solidFill>
                <a:latin typeface="Tahoma"/>
              </a:rPr>
              <a:t>Query resul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85% users look at just one result-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veral need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al, Navigational, Transac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348000" y="163764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xtracting “significant data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3276720" y="446652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atching “user needs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considera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get high recall (but low precision) by retrieving all docs for all queries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is a non-decreasing function of the number of docs retrie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usually decreases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547640" y="2924280"/>
            <a:ext cx="6019920" cy="350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cision-Recall curv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measures Precision at various levels of 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No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it is an AVERAGE over many queri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96" name="AutoShape 5"/>
          <p:cNvCxnSpPr/>
          <p:nvPr/>
        </p:nvCxnSpPr>
        <p:spPr>
          <a:xfrm>
            <a:off x="3520800" y="322416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7" name="AutoShape 6"/>
          <p:cNvCxnSpPr/>
          <p:nvPr/>
        </p:nvCxnSpPr>
        <p:spPr>
          <a:xfrm>
            <a:off x="3521160" y="550980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Freeform 7"/>
          <p:cNvSpPr/>
          <p:nvPr/>
        </p:nvSpPr>
        <p:spPr>
          <a:xfrm>
            <a:off x="3749760" y="3605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870560" y="33764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497480" y="5510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969800" y="4900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750840" y="3757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4055400" y="4290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5503320" y="5052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619280" y="2276640"/>
            <a:ext cx="6019920" cy="365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common pictu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07" name="AutoShape 4"/>
          <p:cNvCxnSpPr/>
          <p:nvPr/>
        </p:nvCxnSpPr>
        <p:spPr>
          <a:xfrm>
            <a:off x="3447720" y="265752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8" name="AutoShape 5"/>
          <p:cNvCxnSpPr/>
          <p:nvPr/>
        </p:nvCxnSpPr>
        <p:spPr>
          <a:xfrm>
            <a:off x="3448080" y="494316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Freeform 6"/>
          <p:cNvSpPr/>
          <p:nvPr/>
        </p:nvSpPr>
        <p:spPr>
          <a:xfrm>
            <a:off x="3828960" y="3114720"/>
            <a:ext cx="1981440" cy="16765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7840" y="31910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576680" y="517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897080" y="4334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754080" y="3114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058640" y="357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430240" y="4486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Freeform 13"/>
          <p:cNvSpPr/>
          <p:nvPr/>
        </p:nvSpPr>
        <p:spPr>
          <a:xfrm rot="20745600">
            <a:off x="3753000" y="3038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 measur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mbined measu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weighted harmonic mean)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eople usually use balanced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eas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,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½ thus 1/F = ½ (1/P + 1/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Use this if you need to optimize a single measure that balances precision and recall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2754360" y="2454120"/>
                <a:ext cx="34052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web-graph: proper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19.1 and 19.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’s Characterist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z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trillion of pages is available (Google 7/08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 billion static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-40K per page =&gt; terabytes &amp; tera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ze grows every day!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an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% new pages, 25% new links change week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fe time of about 10 day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Bow Ti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26" name="Picture 3" descr="bowtie"/>
          <p:cNvPicPr/>
          <p:nvPr/>
        </p:nvPicPr>
        <p:blipFill>
          <a:blip r:embed="rId1"/>
          <a:stretch/>
        </p:blipFill>
        <p:spPr>
          <a:xfrm>
            <a:off x="1260360" y="1700280"/>
            <a:ext cx="662472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238400" y="46530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Oval 3"/>
          <p:cNvSpPr/>
          <p:nvPr/>
        </p:nvSpPr>
        <p:spPr>
          <a:xfrm rot="18223800">
            <a:off x="2311200" y="4031640"/>
            <a:ext cx="2041560" cy="30196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Comic Sans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Oval 4"/>
          <p:cNvSpPr/>
          <p:nvPr/>
        </p:nvSpPr>
        <p:spPr>
          <a:xfrm>
            <a:off x="2863800" y="441180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Oval 5"/>
          <p:cNvSpPr/>
          <p:nvPr/>
        </p:nvSpPr>
        <p:spPr>
          <a:xfrm>
            <a:off x="4202280" y="6039000"/>
            <a:ext cx="318960" cy="3236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Oval 6"/>
          <p:cNvSpPr/>
          <p:nvPr/>
        </p:nvSpPr>
        <p:spPr>
          <a:xfrm>
            <a:off x="2608200" y="5973840"/>
            <a:ext cx="319320" cy="3236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4776840" y="4541760"/>
            <a:ext cx="31752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33" name="AutoShape 8"/>
          <p:cNvCxnSpPr>
            <a:stCxn id="229" idx="6"/>
            <a:endCxn id="232" idx="2"/>
          </p:cNvCxnSpPr>
          <p:nvPr/>
        </p:nvCxnSpPr>
        <p:spPr>
          <a:xfrm>
            <a:off x="3192480" y="4573440"/>
            <a:ext cx="1573920" cy="131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34" name="AutoShape 9"/>
          <p:cNvCxnSpPr>
            <a:stCxn id="229" idx="5"/>
            <a:endCxn id="230" idx="2"/>
          </p:cNvCxnSpPr>
          <p:nvPr/>
        </p:nvCxnSpPr>
        <p:spPr>
          <a:xfrm>
            <a:off x="3134880" y="4700160"/>
            <a:ext cx="1058040" cy="150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35" name="AutoShape 10"/>
          <p:cNvCxnSpPr>
            <a:stCxn id="231" idx="7"/>
            <a:endCxn id="229" idx="4"/>
          </p:cNvCxnSpPr>
          <p:nvPr/>
        </p:nvCxnSpPr>
        <p:spPr>
          <a:xfrm flipV="1">
            <a:off x="2881440" y="4747680"/>
            <a:ext cx="141840" cy="1262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36" name="AutoShape 11"/>
          <p:cNvCxnSpPr>
            <a:stCxn id="230" idx="2"/>
            <a:endCxn id="231" idx="6"/>
          </p:cNvCxnSpPr>
          <p:nvPr/>
        </p:nvCxnSpPr>
        <p:spPr>
          <a:xfrm flipH="1" flipV="1">
            <a:off x="2937960" y="6135480"/>
            <a:ext cx="1254960" cy="6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37" name="AutoShape 12"/>
          <p:cNvCxnSpPr>
            <a:stCxn id="229" idx="3"/>
            <a:endCxn id="231" idx="0"/>
          </p:cNvCxnSpPr>
          <p:nvPr/>
        </p:nvCxnSpPr>
        <p:spPr>
          <a:xfrm flipH="1">
            <a:off x="2768400" y="4700520"/>
            <a:ext cx="141840" cy="1262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38" name="Oval 13"/>
          <p:cNvSpPr/>
          <p:nvPr/>
        </p:nvSpPr>
        <p:spPr>
          <a:xfrm>
            <a:off x="5796000" y="506268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2162160" y="4932360"/>
            <a:ext cx="509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3632040" y="512748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141080" y="389088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C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Oval 17"/>
          <p:cNvSpPr/>
          <p:nvPr/>
        </p:nvSpPr>
        <p:spPr>
          <a:xfrm rot="2604000">
            <a:off x="2555640" y="3511440"/>
            <a:ext cx="2786040" cy="3529080"/>
          </a:xfrm>
          <a:prstGeom prst="ellipse">
            <a:avLst/>
          </a:pr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defini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77724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eakly connected component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WCC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339840" indent="-2253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t of nodes such that from any node can go to any node via an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undirecte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ath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trongly connected component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SCC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339840" indent="-2253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t of nodes such that from any node can go to any node via a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directe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ath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Oval 20"/>
          <p:cNvSpPr/>
          <p:nvPr/>
        </p:nvSpPr>
        <p:spPr>
          <a:xfrm>
            <a:off x="6629400" y="445284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Line 21"/>
          <p:cNvSpPr/>
          <p:nvPr/>
        </p:nvSpPr>
        <p:spPr>
          <a:xfrm flipV="1">
            <a:off x="6067440" y="4760640"/>
            <a:ext cx="623880" cy="393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Find the CO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64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Lucida Sans"/>
              </a:rPr>
              <a:t>Iterate the following proces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Pick a random vertex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ompute all nodes reached from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: O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ompute all nodes that reach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: I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ompute SCC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:=  I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0" i="1" lang="it-IT" sz="2400" spc="-1" strike="noStrike">
                <a:solidFill>
                  <a:srgbClr val="000099"/>
                </a:solidFill>
                <a:latin typeface="Arial Narrow"/>
              </a:rPr>
              <a:t>∩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 O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heck whether it is the largest SC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79280" y="57704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f the CORE is about ¼ of the vertices, after 20 iterations, Pb to not find the core &lt; 1% (given that the graph is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availab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Compute SC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Lucida Sans"/>
              </a:rPr>
              <a:t>Classical Algorithm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FS(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ranspose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G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n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G</a:t>
            </a:r>
            <a:r>
              <a:rPr b="1" lang="it-IT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FS(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 following vertices in decreasing order of  the time their visit ended at step 1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very tree is a SC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FS is hard to compute on disk: </a:t>
            </a:r>
            <a:r>
              <a:rPr b="0" i="1" lang="it-IT" sz="2600" spc="-1" strike="noStrike">
                <a:solidFill>
                  <a:srgbClr val="a40508"/>
                </a:solidFill>
                <a:latin typeface="Lucida Sans"/>
              </a:rPr>
              <a:t>no localit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olution of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irst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use only on-page, web-text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d frequency and langua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con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-- use off-page, web-graph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(or connectivity) analysi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chor-text (How people refer to a pa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ir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answer “the need behind the query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 on “user need”, rather than on 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multiple data-sourc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-through dat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45400" y="1989000"/>
            <a:ext cx="2298600" cy="6426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5-1997 AltaVista, Excite, Lycos, etc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551640" y="3357720"/>
            <a:ext cx="2592360" cy="6174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8: Google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549440" y="6093000"/>
            <a:ext cx="5543640" cy="691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Fourth generation  </a:t>
            </a:r>
            <a:r>
              <a:rPr b="0" lang="it-IT" sz="1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  Information Suppl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[Andrei Broder, VP emerging search tech, Yahoo! Research]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227640" y="5084640"/>
            <a:ext cx="2592360" cy="69984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Google, Yahoo,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MSN, ASK,………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DF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79280" y="5857920"/>
            <a:ext cx="85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924360" y="2133720"/>
            <a:ext cx="44640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FS(u:vertex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olor[u]=GRA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[u]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time 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time +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oreach v in succ[u] do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f (color[v]=WHITE) then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[v]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FS(v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olor[u]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BLAC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[u] 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time 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time + 1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80880" y="168588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lassical Approa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382752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e4a8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0000"/>
                </a:solidFill>
                <a:latin typeface="Lucida Sans"/>
              </a:rPr>
              <a:t>main()</a:t>
            </a:r>
            <a:r>
              <a:rPr b="0" i="1" lang="it-IT" sz="1500" spc="-1" strike="noStrike">
                <a:solidFill>
                  <a:srgbClr val="000000"/>
                </a:solidFill>
                <a:latin typeface="Lucida Sans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foreach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vertex v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color[v]=WHITE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foreach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vertex v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if (color[v]==WHITE)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DFS(v);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24000" y="3141720"/>
            <a:ext cx="2592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24000" y="3933720"/>
            <a:ext cx="2592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00720" y="4365720"/>
            <a:ext cx="2808000" cy="57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5796000" y="3294000"/>
            <a:ext cx="2592360" cy="566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4572000" y="2421000"/>
            <a:ext cx="2879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Left Arrow 12"/>
          <p:cNvSpPr/>
          <p:nvPr/>
        </p:nvSpPr>
        <p:spPr>
          <a:xfrm>
            <a:off x="7631280" y="2924280"/>
            <a:ext cx="1512720" cy="504720"/>
          </a:xfrm>
          <a:prstGeom prst="leftArrow">
            <a:avLst>
              <a:gd name="adj1" fmla="val 50000"/>
              <a:gd name="adj2" fmla="val 4995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emi-External DF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539640" y="3573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40508"/>
                </a:solidFill>
                <a:latin typeface="Lucida Sans"/>
              </a:rPr>
              <a:t>Key observation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f bit-array fits in internal memory than a DFS takes |V| + |E|/B disk access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39640" y="1844640"/>
            <a:ext cx="77058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it array of nodes        (visited or no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rray of successors 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tack of the DFS-recur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What about million/billion nodes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539640" y="4959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40508"/>
                </a:solidFill>
                <a:latin typeface="Lucida Sans"/>
              </a:rPr>
              <a:t>Key observation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forest is a DFS forest if and only if there are no FORWARD CROSS edges among the non-tree edges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500720" cy="30560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6"/>
          <p:cNvSpPr/>
          <p:nvPr/>
        </p:nvSpPr>
        <p:spPr>
          <a:xfrm>
            <a:off x="4221360" y="4437000"/>
            <a:ext cx="65016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324000" y="59911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40508"/>
                </a:solidFill>
                <a:latin typeface="Lucida Sans"/>
              </a:rPr>
              <a:t>Algorithm ?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Construct incrementally a tentative DFS forest which minimizes the # of those edges (overall), in passes..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A Semi-External DF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7969320" cy="23050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539640" y="1844640"/>
            <a:ext cx="770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it array of nodes    (visited or no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rray of successors  (stack of the DFS-recurs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95280" y="55134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40508"/>
                </a:solidFill>
                <a:latin typeface="Lucida Sans"/>
              </a:rPr>
              <a:t>Key assumption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e assume that 2n edges, and the auxiliary data structures, fit in memory.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Lucida Sans"/>
              </a:rPr>
              <a:t>Rearrange nodes in adj-lists, the ones with large subtrees go to the fro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Observing Web Graph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We do not know which </a:t>
            </a:r>
            <a:r>
              <a:rPr b="1" lang="it-IT" sz="2200" spc="-1" strike="noStrike">
                <a:solidFill>
                  <a:srgbClr val="000000"/>
                </a:solidFill>
                <a:latin typeface="Lucida Sans"/>
              </a:rPr>
              <a:t>percentage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of it we know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only way to discover the graph structure of the web is via large scale crawl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arning: the picture might be </a:t>
            </a: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distorted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by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ze limitation of the craw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ing ru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erturbations of the "natural" process of birth  and death of nodes and 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hy is it interesting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604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argest artifact ever conceived by the huma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loit its structure of the Web fo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 strategie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am detectio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scovering communities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lassification/organiz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dict the evolution of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lnSpc>
                <a:spcPct val="15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ociological understand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any other large graphs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hysical network grap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Rou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communication 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 “cosine” grap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undirected, 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static web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emantic distanc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tween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Query-Log grap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bipartite, 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queries and UR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(q,u) u is a result for q, and has been clicked by some user who issued 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ocial graph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undirected, un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us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(x,y)  if x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now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y (facebook, address book, email,.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size of the web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19.5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What is the size of the web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Issu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The web is really infinit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ynamic content, e.g., calendar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Static web contains syntactic duplication, mostly due to mirroring (~30%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Some servers are seldom connec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Who car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Media, and consequently the us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Engine des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MS PGothic"/>
              </a:rPr>
              <a:t>What can we attempt to measure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The relative sizes of search engines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ocument extension: e.g. engines index pages not yet crawled, by indexing anchor-tex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ocument restriction: All engines restrict what is indexed (first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words, only relevant words, etc.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The coverage of a search engine relative to another particular crawling proces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rcRect l="22732" t="20527" r="21940" b="14306"/>
          <a:stretch/>
        </p:blipFill>
        <p:spPr>
          <a:xfrm>
            <a:off x="127080" y="144360"/>
            <a:ext cx="898200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809880" y="3429000"/>
            <a:ext cx="533412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 (1/2) * Size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 (1/6) * Size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/2)*Size A = (1/6)*Size B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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A / Size B 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/6)/(1/2) = 1/3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81280" y="1863720"/>
            <a:ext cx="54864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Lucida Sans"/>
              </a:rPr>
              <a:t>Samp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URLs randomly from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Lucida Sans"/>
              </a:rPr>
              <a:t>Chec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f contained in B and vice versa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304920" y="1828800"/>
            <a:ext cx="3200400" cy="3484440"/>
            <a:chOff x="304920" y="1828800"/>
            <a:chExt cx="3200400" cy="3484440"/>
          </a:xfrm>
        </p:grpSpPr>
        <p:pic>
          <p:nvPicPr>
            <p:cNvPr id="291" name="Picture 5" descr="inter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3200400" cy="34844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92" name="Rectangle 6"/>
            <p:cNvSpPr/>
            <p:nvPr/>
          </p:nvSpPr>
          <p:spPr>
            <a:xfrm>
              <a:off x="1388520" y="3352680"/>
              <a:ext cx="473760" cy="228600"/>
            </a:xfrm>
            <a:prstGeom prst="rect">
              <a:avLst/>
            </a:prstGeom>
            <a:solidFill>
              <a:srgbClr val="f2f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85480" y="3276720"/>
              <a:ext cx="880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4" name="Text Box 8"/>
          <p:cNvSpPr/>
          <p:nvPr/>
        </p:nvSpPr>
        <p:spPr>
          <a:xfrm>
            <a:off x="793800" y="6437160"/>
            <a:ext cx="78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Lucida Sans"/>
              </a:rPr>
              <a:t>Each test involves: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i) Sampling URL  (ii) Checking UR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61920" y="912960"/>
            <a:ext cx="722016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MS PGothic"/>
              </a:rPr>
              <a:t>Relative Size from Overla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MS PGothic"/>
              </a:rPr>
              <a:t>Given two engines A and B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Rounded Rectangular Callout 11"/>
          <p:cNvSpPr/>
          <p:nvPr/>
        </p:nvSpPr>
        <p:spPr>
          <a:xfrm>
            <a:off x="5076720" y="3213000"/>
            <a:ext cx="1008000" cy="1079640"/>
          </a:xfrm>
          <a:prstGeom prst="wedgeRoundRectCallout">
            <a:avLst>
              <a:gd name="adj1" fmla="val 134851"/>
              <a:gd name="adj2" fmla="val -103023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Sampling URL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deal strategy: Generate a random URL and check for containment in each index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blem: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Random URLs are hard to find! 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4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pproach 1: Generate a random URL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surely containe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a given search engi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pproach 2: Random walks or random IP addres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#1: Random URL in SE via random queri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95280" y="1523520"/>
            <a:ext cx="87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5200" indent="-2952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Generat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Lucida Sans"/>
                <a:ea typeface="MS PGothic"/>
              </a:rPr>
              <a:t>random quer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761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Lexicon: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400,000+ words from a web craw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7612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Conjunctive Queries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  <a:ea typeface="MS PGothic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 and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  <a:ea typeface="MS PGothi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e.g.,  vocalists AND  rs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Get 100 result URLs from engine 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Choose a random URL as the candidate to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MS PGothic"/>
              </a:rPr>
              <a:t>che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for presence in search engine B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MS PGothic"/>
              </a:rPr>
              <a:t>(next slide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This induces a probability weight W(p) for each page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MS PGothic"/>
              </a:rPr>
              <a:t>Conjecture:  W(SE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Lucida Sans"/>
                <a:ea typeface="MS PGothic"/>
              </a:rPr>
              <a:t>A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MS PGothic"/>
              </a:rPr>
              <a:t>) / W(SE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Lucida Sans"/>
                <a:ea typeface="MS PGothic"/>
              </a:rPr>
              <a:t>B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MS PGothic"/>
              </a:rPr>
              <a:t>) ~ |SE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Lucida Sans"/>
                <a:ea typeface="MS PGothic"/>
              </a:rPr>
              <a:t>A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MS PGothic"/>
              </a:rPr>
              <a:t>| / |SE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Lucida Sans"/>
                <a:ea typeface="MS PGothic"/>
              </a:rPr>
              <a:t>B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MS PGothic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000" y="733320"/>
            <a:ext cx="721980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URL check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44240" y="1672920"/>
            <a:ext cx="80881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Download D at address URL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Get list of word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Use 8 low frequency words as AND query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Check i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is present in result se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Problem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Near duplic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Engine time-ou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s 8-word query good enough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MS PGothic"/>
              </a:rPr>
              <a:t>Advantages &amp; disadvantag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Statistically sound under the induced weigh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Biases induced by random query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Query bia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Favors content-rich pages in the language(s) of the lexic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Ranking bias [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Use conjunctive queries &amp; fetch all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Query restriction bias: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engine might not deal properly with 8 words conjunctiv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Malicious bia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Sabotage by engin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Operational Problem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Time-outs, failures, engine inconsistencies, index modificatio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#2: Random IP address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Find a web server at the given IP addr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f there’s o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Collect all pages from serv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From this, choose a page at rando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Advantages &amp; disadvantag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64736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Clean statisti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ndependent of crawling strateg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Disadvantag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Many hosts might share one IP, or not accept reque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No guarantee all pages are linked to root page, and thus can be collected.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Power law for # pages/hosts generates bias towards sites with few pag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No sampling solution is perfect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Lots of new ideas ..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....but the problem is getting ha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Quantitative studies are fascinating and a good research proble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web-graph: storag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0.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 &amp;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rcRect l="14513" t="20527" r="14272" b="334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In-degree distribu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18" name="Picture 3" descr="indeg_altav"/>
          <p:cNvPicPr/>
          <p:nvPr/>
        </p:nvPicPr>
        <p:blipFill>
          <a:blip r:embed="rId1"/>
          <a:stretch/>
        </p:blipFill>
        <p:spPr>
          <a:xfrm>
            <a:off x="468360" y="1844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indeg_webbase"/>
          <p:cNvPicPr/>
          <p:nvPr/>
        </p:nvPicPr>
        <p:blipFill>
          <a:blip r:embed="rId2"/>
          <a:stretch/>
        </p:blipFill>
        <p:spPr>
          <a:xfrm>
            <a:off x="4284720" y="1844640"/>
            <a:ext cx="4248000" cy="26910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1116000" y="4581360"/>
            <a:ext cx="30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Altavista crawl, 199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5290200" y="4581360"/>
            <a:ext cx="241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WebBase Crawl 20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673920" y="5391000"/>
            <a:ext cx="42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Indegree follows power law distrib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8"/>
              <p:cNvSpPr txBox="1"/>
              <p:nvPr/>
            </p:nvSpPr>
            <p:spPr>
              <a:xfrm>
                <a:off x="5194440" y="5300640"/>
                <a:ext cx="2935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in-degree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9"/>
              <p:cNvSpPr txBox="1"/>
              <p:nvPr/>
            </p:nvSpPr>
            <p:spPr>
              <a:xfrm>
                <a:off x="6350040" y="5972040"/>
                <a:ext cx="8334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9"/>
          <p:cNvSpPr/>
          <p:nvPr/>
        </p:nvSpPr>
        <p:spPr>
          <a:xfrm>
            <a:off x="720360" y="6413400"/>
            <a:ext cx="63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This is true also for: out-degree, size components,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,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Loc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usually most of the hyperlinks point to other URLs on the same host (about 80%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mila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ages close in lexicographic order tend to share many outgoing li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Picture of the Web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971640" y="1844640"/>
          <a:ext cx="554508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55450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484360" y="2565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97164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07672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4140360" y="5661000"/>
            <a:ext cx="43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millions of pages, 150millions of lin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-sor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8" name="Picture 3" descr="A-spy"/>
          <p:cNvPicPr/>
          <p:nvPr/>
        </p:nvPicPr>
        <p:blipFill>
          <a:blip r:embed="rId1"/>
          <a:stretch/>
        </p:blipFill>
        <p:spPr>
          <a:xfrm>
            <a:off x="1720800" y="1752480"/>
            <a:ext cx="5702400" cy="48769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4"/>
          <p:cNvSpPr/>
          <p:nvPr/>
        </p:nvSpPr>
        <p:spPr>
          <a:xfrm>
            <a:off x="7737840" y="32702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f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Freeform 5"/>
          <p:cNvSpPr/>
          <p:nvPr/>
        </p:nvSpPr>
        <p:spPr>
          <a:xfrm>
            <a:off x="6981840" y="3676680"/>
            <a:ext cx="1085760" cy="8190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684" h="516">
                <a:moveTo>
                  <a:pt x="684" y="0"/>
                </a:moveTo>
                <a:cubicBezTo>
                  <a:pt x="476" y="130"/>
                  <a:pt x="268" y="261"/>
                  <a:pt x="210" y="342"/>
                </a:cubicBezTo>
                <a:cubicBezTo>
                  <a:pt x="152" y="423"/>
                  <a:pt x="371" y="457"/>
                  <a:pt x="336" y="486"/>
                </a:cubicBezTo>
                <a:cubicBezTo>
                  <a:pt x="301" y="515"/>
                  <a:pt x="60" y="512"/>
                  <a:pt x="0" y="5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0" y="2286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1647720" y="2066760"/>
            <a:ext cx="781200" cy="466920"/>
          </a:xfrm>
          <a:custGeom>
            <a:avLst/>
            <a:gdLst>
              <a:gd name="textAreaLeft" fmla="*/ 0 w 781200"/>
              <a:gd name="textAreaRight" fmla="*/ 781560 w 7812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492" h="294">
                <a:moveTo>
                  <a:pt x="0" y="294"/>
                </a:moveTo>
                <a:cubicBezTo>
                  <a:pt x="109" y="271"/>
                  <a:pt x="219" y="249"/>
                  <a:pt x="228" y="210"/>
                </a:cubicBezTo>
                <a:cubicBezTo>
                  <a:pt x="237" y="171"/>
                  <a:pt x="10" y="95"/>
                  <a:pt x="54" y="60"/>
                </a:cubicBezTo>
                <a:cubicBezTo>
                  <a:pt x="98" y="25"/>
                  <a:pt x="295" y="12"/>
                  <a:pt x="4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Front-compression of URLs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+ delta encoding of ID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329440" cy="2376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1042920" y="4165560"/>
            <a:ext cx="3260880" cy="2654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3"/>
          <a:stretch/>
        </p:blipFill>
        <p:spPr>
          <a:xfrm>
            <a:off x="5219640" y="4135320"/>
            <a:ext cx="3287880" cy="2722680"/>
          </a:xfrm>
          <a:prstGeom prst="rect">
            <a:avLst/>
          </a:prstGeom>
          <a:ln w="0">
            <a:noFill/>
          </a:ln>
        </p:spPr>
      </p:pic>
      <p:sp>
        <p:nvSpPr>
          <p:cNvPr id="347" name="Oval 6"/>
          <p:cNvSpPr/>
          <p:nvPr/>
        </p:nvSpPr>
        <p:spPr>
          <a:xfrm>
            <a:off x="3419640" y="4724280"/>
            <a:ext cx="460080" cy="360360"/>
          </a:xfrm>
          <a:prstGeom prst="ellipse">
            <a:avLst/>
          </a:pr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1187280" y="4959360"/>
            <a:ext cx="460440" cy="468360"/>
          </a:xfrm>
          <a:prstGeom prst="ellipse">
            <a:avLst/>
          </a:pr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7667640" y="4797360"/>
            <a:ext cx="376200" cy="297000"/>
            <a:chOff x="7667640" y="4797360"/>
            <a:chExt cx="376200" cy="297000"/>
          </a:xfrm>
        </p:grpSpPr>
        <p:sp>
          <p:nvSpPr>
            <p:cNvPr id="350" name="Oval 9"/>
            <p:cNvSpPr/>
            <p:nvPr/>
          </p:nvSpPr>
          <p:spPr>
            <a:xfrm>
              <a:off x="7667640" y="4797360"/>
              <a:ext cx="376200" cy="297000"/>
            </a:xfrm>
            <a:prstGeom prst="ellipse">
              <a:avLst/>
            </a:prstGeom>
            <a:noFill/>
            <a:ln w="36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51" name="Group 10"/>
          <p:cNvGrpSpPr/>
          <p:nvPr/>
        </p:nvGrpSpPr>
        <p:grpSpPr>
          <a:xfrm>
            <a:off x="7651800" y="5300640"/>
            <a:ext cx="376200" cy="297000"/>
            <a:chOff x="7651800" y="5300640"/>
            <a:chExt cx="376200" cy="297000"/>
          </a:xfrm>
        </p:grpSpPr>
        <p:sp>
          <p:nvSpPr>
            <p:cNvPr id="352" name="Oval 11"/>
            <p:cNvSpPr/>
            <p:nvPr/>
          </p:nvSpPr>
          <p:spPr>
            <a:xfrm>
              <a:off x="7651800" y="5300640"/>
              <a:ext cx="376200" cy="297000"/>
            </a:xfrm>
            <a:prstGeom prst="ellipse">
              <a:avLst/>
            </a:prstGeom>
            <a:noFill/>
            <a:ln w="36000">
              <a:solidFill>
                <a:srgbClr val="2300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53" name="Oval 12"/>
          <p:cNvSpPr/>
          <p:nvPr/>
        </p:nvSpPr>
        <p:spPr>
          <a:xfrm>
            <a:off x="3348000" y="5229360"/>
            <a:ext cx="515880" cy="468000"/>
          </a:xfrm>
          <a:prstGeom prst="ellipse">
            <a:avLst/>
          </a:prstGeom>
          <a:noFill/>
          <a:ln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5796000" y="1628640"/>
            <a:ext cx="144000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Front-coding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library </a:t>
            </a:r>
            <a:r>
              <a:rPr b="0" lang="it-IT" sz="4000" spc="-1" strike="noStrike">
                <a:solidFill>
                  <a:srgbClr val="a40508"/>
                </a:solidFill>
                <a:latin typeface="Comic Sans MS"/>
              </a:rPr>
              <a:t>Web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442800" y="3357720"/>
            <a:ext cx="83073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ccessor list S(x) = {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x, 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1, ..., 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1}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negative entrie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"/>
          <p:cNvPicPr/>
          <p:nvPr/>
        </p:nvPicPr>
        <p:blipFill>
          <a:blip r:embed="rId2"/>
          <a:stretch/>
        </p:blipFill>
        <p:spPr>
          <a:xfrm>
            <a:off x="3203640" y="3956040"/>
            <a:ext cx="2906640" cy="9842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9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62" name="Picture 5" descr=""/>
          <p:cNvPicPr/>
          <p:nvPr/>
        </p:nvPicPr>
        <p:blipFill>
          <a:blip r:embed="rId3"/>
          <a:stretch/>
        </p:blipFill>
        <p:spPr>
          <a:xfrm>
            <a:off x="3348000" y="5049720"/>
            <a:ext cx="5110200" cy="18352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8"/>
          <p:cNvSpPr/>
          <p:nvPr/>
        </p:nvSpPr>
        <p:spPr>
          <a:xfrm>
            <a:off x="155520" y="5155560"/>
            <a:ext cx="28195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mpressed gap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40508"/>
                </a:solidFill>
                <a:latin typeface="Arial"/>
              </a:rPr>
              <a:t>(locality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py-lists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lose nodes sharemany success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5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63600" y="5356080"/>
            <a:ext cx="8529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ch bit of the copy-list informs whether the corresponding successor of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is also a successor of the reference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ference index is chosen in [0,W] that gives the best compressio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2965320" y="3435480"/>
            <a:ext cx="5965920" cy="17730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8"/>
          <p:cNvSpPr/>
          <p:nvPr/>
        </p:nvSpPr>
        <p:spPr>
          <a:xfrm>
            <a:off x="119160" y="3837960"/>
            <a:ext cx="2819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list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40508"/>
                </a:solidFill>
                <a:latin typeface="Arial"/>
              </a:rPr>
              <a:t>(similarity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AutoShape 9"/>
          <p:cNvSpPr/>
          <p:nvPr/>
        </p:nvSpPr>
        <p:spPr>
          <a:xfrm>
            <a:off x="5580000" y="189000"/>
            <a:ext cx="3313080" cy="100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Reference chai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possibly limi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py-blocks = RLE(Copy-lis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2965320" y="1557360"/>
            <a:ext cx="5965920" cy="177336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5"/>
          <p:cNvSpPr/>
          <p:nvPr/>
        </p:nvSpPr>
        <p:spPr>
          <a:xfrm>
            <a:off x="119160" y="2170440"/>
            <a:ext cx="2819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list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179280" y="5373720"/>
            <a:ext cx="8382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first copy block is 0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f the copy list starts with 0;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ach RLE-length is decremented by one for all block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993366"/>
                </a:solidFill>
                <a:latin typeface="Arial"/>
              </a:rPr>
              <a:t>last block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s omitted (we know the length from </a:t>
            </a:r>
            <a:r>
              <a:rPr b="0" i="1" lang="en-GB" sz="2100" spc="-1" strike="noStrike">
                <a:solidFill>
                  <a:srgbClr val="ff0000"/>
                </a:solidFill>
                <a:latin typeface="Arial"/>
              </a:rPr>
              <a:t>Out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7" name="Picture 7" descr=""/>
          <p:cNvPicPr/>
          <p:nvPr/>
        </p:nvPicPr>
        <p:blipFill>
          <a:blip r:embed="rId2"/>
          <a:stretch/>
        </p:blipFill>
        <p:spPr>
          <a:xfrm>
            <a:off x="2771640" y="3487680"/>
            <a:ext cx="6193080" cy="174168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8"/>
          <p:cNvSpPr/>
          <p:nvPr/>
        </p:nvSpPr>
        <p:spPr>
          <a:xfrm>
            <a:off x="23760" y="3592800"/>
            <a:ext cx="2819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block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</a:rPr>
              <a:t>(RLE on bit sequenc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5008680" y="4154400"/>
            <a:ext cx="207720" cy="282600"/>
          </a:xfrm>
          <a:prstGeom prst="ellipse">
            <a:avLst/>
          </a:prstGeom>
          <a:noFill/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AutoShape 10"/>
          <p:cNvSpPr/>
          <p:nvPr/>
        </p:nvSpPr>
        <p:spPr>
          <a:xfrm>
            <a:off x="4859280" y="2276640"/>
            <a:ext cx="217440" cy="288720"/>
          </a:xfrm>
          <a:custGeom>
            <a:avLst/>
            <a:gdLst>
              <a:gd name="textAreaLeft" fmla="*/ 360 w 217440"/>
              <a:gd name="textAreaRight" fmla="*/ 217080 w 21744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28669">
                <a:moveTo>
                  <a:pt x="177" y="0"/>
                </a:moveTo>
                <a:arcTo wR="177" hR="177" stAng="16200000" swAng="-5400000"/>
                <a:lnTo>
                  <a:pt x="0" y="28492"/>
                </a:lnTo>
                <a:arcTo wR="177" hR="177" stAng="10800000" swAng="-5400000"/>
                <a:lnTo>
                  <a:pt x="21423" y="2866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AutoShape 11"/>
          <p:cNvSpPr/>
          <p:nvPr/>
        </p:nvSpPr>
        <p:spPr>
          <a:xfrm>
            <a:off x="5219640" y="2276640"/>
            <a:ext cx="179280" cy="28872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34759">
                <a:moveTo>
                  <a:pt x="177" y="0"/>
                </a:moveTo>
                <a:arcTo wR="177" hR="177" stAng="16200000" swAng="-5400000"/>
                <a:lnTo>
                  <a:pt x="0" y="34582"/>
                </a:lnTo>
                <a:arcTo wR="177" hR="177" stAng="10800000" swAng="-5400000"/>
                <a:lnTo>
                  <a:pt x="21423" y="3475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AutoShape 12"/>
          <p:cNvSpPr/>
          <p:nvPr/>
        </p:nvSpPr>
        <p:spPr>
          <a:xfrm>
            <a:off x="5653080" y="4149720"/>
            <a:ext cx="142920" cy="287280"/>
          </a:xfrm>
          <a:custGeom>
            <a:avLst/>
            <a:gdLst/>
            <a:ahLst/>
            <a:rect l="l" t="t" r="r" b="b"/>
            <a:pathLst>
              <a:path w="21600" h="43363">
                <a:moveTo>
                  <a:pt x="177" y="0"/>
                </a:moveTo>
                <a:arcTo wR="177" hR="177" stAng="16200000" swAng="-5400000"/>
                <a:lnTo>
                  <a:pt x="0" y="43186"/>
                </a:lnTo>
                <a:arcTo wR="177" hR="177" stAng="10800000" swAng="-5400000"/>
                <a:lnTo>
                  <a:pt x="21423" y="43363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AutoShape 13"/>
          <p:cNvSpPr/>
          <p:nvPr/>
        </p:nvSpPr>
        <p:spPr>
          <a:xfrm>
            <a:off x="5329080" y="4149720"/>
            <a:ext cx="179640" cy="287280"/>
          </a:xfrm>
          <a:custGeom>
            <a:avLst/>
            <a:gdLst>
              <a:gd name="textAreaLeft" fmla="*/ 360 w 179640"/>
              <a:gd name="textAreaRight" fmla="*/ 179280 w 179640"/>
              <a:gd name="textAreaTop" fmla="*/ 360 h 287280"/>
              <a:gd name="textAreaBottom" fmla="*/ 286920 h 287280"/>
            </a:gdLst>
            <a:ahLst/>
            <a:rect l="textAreaLeft" t="textAreaTop" r="textAreaRight" b="textAreaBottom"/>
            <a:pathLst>
              <a:path w="21600" h="34517">
                <a:moveTo>
                  <a:pt x="177" y="0"/>
                </a:moveTo>
                <a:arcTo wR="177" hR="177" stAng="16200000" swAng="-5400000"/>
                <a:lnTo>
                  <a:pt x="0" y="34340"/>
                </a:lnTo>
                <a:arcTo wR="177" hR="177" stAng="10800000" swAng="-5400000"/>
                <a:lnTo>
                  <a:pt x="21423" y="34517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Rectangle 14"/>
          <p:cNvSpPr/>
          <p:nvPr/>
        </p:nvSpPr>
        <p:spPr>
          <a:xfrm>
            <a:off x="4643280" y="1557360"/>
            <a:ext cx="108108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Rectangle 15"/>
          <p:cNvSpPr/>
          <p:nvPr/>
        </p:nvSpPr>
        <p:spPr>
          <a:xfrm>
            <a:off x="5003640" y="3500280"/>
            <a:ext cx="115272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TextBox 16"/>
          <p:cNvSpPr/>
          <p:nvPr/>
        </p:nvSpPr>
        <p:spPr>
          <a:xfrm>
            <a:off x="5055840" y="4560840"/>
            <a:ext cx="39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1,3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7"/>
          <p:cNvGrpSpPr/>
          <p:nvPr/>
        </p:nvGrpSpPr>
        <p:grpSpPr>
          <a:xfrm>
            <a:off x="1805040" y="3382920"/>
            <a:ext cx="7338960" cy="1558800"/>
            <a:chOff x="1805040" y="3382920"/>
            <a:chExt cx="7338960" cy="1558800"/>
          </a:xfrm>
        </p:grpSpPr>
        <p:pic>
          <p:nvPicPr>
            <p:cNvPr id="388" name="Picture 6" descr=""/>
            <p:cNvPicPr/>
            <p:nvPr/>
          </p:nvPicPr>
          <p:blipFill>
            <a:blip r:embed="rId1"/>
            <a:stretch/>
          </p:blipFill>
          <p:spPr>
            <a:xfrm>
              <a:off x="1805040" y="3382920"/>
              <a:ext cx="733896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Rectangle 26"/>
            <p:cNvSpPr/>
            <p:nvPr/>
          </p:nvSpPr>
          <p:spPr>
            <a:xfrm>
              <a:off x="8028000" y="3789360"/>
              <a:ext cx="10800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569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tra-nodes:</a:t>
            </a:r>
            <a:r>
              <a:rPr b="0" lang="it-IT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Compressing Interval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2771640" y="1557360"/>
            <a:ext cx="6193080" cy="174132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5"/>
          <p:cNvSpPr/>
          <p:nvPr/>
        </p:nvSpPr>
        <p:spPr>
          <a:xfrm>
            <a:off x="-58680" y="185940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block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0" y="3650400"/>
            <a:ext cx="179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</a:rPr>
              <a:t>Consecutiv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xtra-nod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6291360" y="399096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5508720" y="5070240"/>
            <a:ext cx="3671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Arial"/>
              </a:rPr>
              <a:t>0 = (15-15)*2   </a:t>
            </a:r>
            <a:r>
              <a:rPr b="0" i="1" lang="en-GB" sz="1600" spc="-1" strike="noStrike">
                <a:solidFill>
                  <a:srgbClr val="008000"/>
                </a:solidFill>
                <a:latin typeface="Arial"/>
              </a:rPr>
              <a:t>(positive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2 = (23-19)-2   </a:t>
            </a:r>
            <a:r>
              <a:rPr b="0" i="1" lang="en-GB" sz="1600" spc="-1" strike="noStrike">
                <a:solidFill>
                  <a:srgbClr val="333399"/>
                </a:solidFill>
                <a:latin typeface="Arial"/>
              </a:rPr>
              <a:t>(jump &gt;= 2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77777"/>
                </a:solidFill>
                <a:latin typeface="Arial"/>
              </a:rPr>
              <a:t>600 = (316-16)*2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Arial"/>
              </a:rPr>
              <a:t>12 = (22-16)*2  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(positiv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3018 = 3041-22-1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(differenc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97" name="Group 10"/>
          <p:cNvGrpSpPr/>
          <p:nvPr/>
        </p:nvGrpSpPr>
        <p:grpSpPr>
          <a:xfrm>
            <a:off x="6253200" y="3792600"/>
            <a:ext cx="255600" cy="280800"/>
            <a:chOff x="6253200" y="3792600"/>
            <a:chExt cx="255600" cy="280800"/>
          </a:xfrm>
        </p:grpSpPr>
        <p:sp>
          <p:nvSpPr>
            <p:cNvPr id="398" name="Oval 11"/>
            <p:cNvSpPr/>
            <p:nvPr/>
          </p:nvSpPr>
          <p:spPr>
            <a:xfrm>
              <a:off x="6253200" y="3792600"/>
              <a:ext cx="255600" cy="28080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99" name="Group 14"/>
          <p:cNvGrpSpPr/>
          <p:nvPr/>
        </p:nvGrpSpPr>
        <p:grpSpPr>
          <a:xfrm>
            <a:off x="8245440" y="4008600"/>
            <a:ext cx="430200" cy="280800"/>
            <a:chOff x="8245440" y="4008600"/>
            <a:chExt cx="430200" cy="280800"/>
          </a:xfrm>
        </p:grpSpPr>
        <p:sp>
          <p:nvSpPr>
            <p:cNvPr id="400" name="Oval 15"/>
            <p:cNvSpPr/>
            <p:nvPr/>
          </p:nvSpPr>
          <p:spPr>
            <a:xfrm>
              <a:off x="8245440" y="4008600"/>
              <a:ext cx="430200" cy="280800"/>
            </a:xfrm>
            <a:prstGeom prst="ellipse">
              <a:avLst/>
            </a:prstGeom>
            <a:noFill/>
            <a:ln w="36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1" name="Rectangle 16"/>
          <p:cNvSpPr/>
          <p:nvPr/>
        </p:nvSpPr>
        <p:spPr>
          <a:xfrm>
            <a:off x="0" y="5084640"/>
            <a:ext cx="8631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1000" indent="-336600"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Interv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encoded by left extreme and length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Int. length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decremented by L</a:t>
            </a:r>
            <a:r>
              <a:rPr b="0" lang="en-GB" sz="2100" spc="-1" strike="noStrike" baseline="-33000">
                <a:solidFill>
                  <a:srgbClr val="000000"/>
                </a:solidFill>
                <a:latin typeface="Arial"/>
              </a:rPr>
              <a:t>min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Residu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differences between residuals,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6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r the source (the first)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Rectangle 17"/>
          <p:cNvSpPr/>
          <p:nvPr/>
        </p:nvSpPr>
        <p:spPr>
          <a:xfrm>
            <a:off x="6156360" y="1557360"/>
            <a:ext cx="2808360" cy="172728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5364000" y="3392640"/>
            <a:ext cx="3780000" cy="151272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AutoShape 19"/>
          <p:cNvSpPr/>
          <p:nvPr/>
        </p:nvSpPr>
        <p:spPr>
          <a:xfrm>
            <a:off x="5867280" y="0"/>
            <a:ext cx="3276720" cy="692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his is a Java and C++ 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(≈3 bits/ed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05" name="Group 20"/>
          <p:cNvGrpSpPr/>
          <p:nvPr/>
        </p:nvGrpSpPr>
        <p:grpSpPr>
          <a:xfrm>
            <a:off x="6469200" y="3789360"/>
            <a:ext cx="255600" cy="281160"/>
            <a:chOff x="6469200" y="3789360"/>
            <a:chExt cx="255600" cy="281160"/>
          </a:xfrm>
        </p:grpSpPr>
        <p:sp>
          <p:nvSpPr>
            <p:cNvPr id="406" name="Oval 21"/>
            <p:cNvSpPr/>
            <p:nvPr/>
          </p:nvSpPr>
          <p:spPr>
            <a:xfrm>
              <a:off x="6469200" y="378936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07" name="Group 22"/>
          <p:cNvGrpSpPr/>
          <p:nvPr/>
        </p:nvGrpSpPr>
        <p:grpSpPr>
          <a:xfrm>
            <a:off x="6404040" y="1995480"/>
            <a:ext cx="255600" cy="281160"/>
            <a:chOff x="6404040" y="1995480"/>
            <a:chExt cx="255600" cy="281160"/>
          </a:xfrm>
        </p:grpSpPr>
        <p:sp>
          <p:nvSpPr>
            <p:cNvPr id="408" name="Oval 23"/>
            <p:cNvSpPr/>
            <p:nvPr/>
          </p:nvSpPr>
          <p:spPr>
            <a:xfrm>
              <a:off x="640404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09" name="Group 24"/>
          <p:cNvGrpSpPr/>
          <p:nvPr/>
        </p:nvGrpSpPr>
        <p:grpSpPr>
          <a:xfrm>
            <a:off x="7524720" y="1995480"/>
            <a:ext cx="255600" cy="281160"/>
            <a:chOff x="7524720" y="1995480"/>
            <a:chExt cx="255600" cy="281160"/>
          </a:xfrm>
        </p:grpSpPr>
        <p:sp>
          <p:nvSpPr>
            <p:cNvPr id="410" name="Oval 25"/>
            <p:cNvSpPr/>
            <p:nvPr/>
          </p:nvSpPr>
          <p:spPr>
            <a:xfrm>
              <a:off x="752472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11" name="Group 12"/>
          <p:cNvGrpSpPr/>
          <p:nvPr/>
        </p:nvGrpSpPr>
        <p:grpSpPr>
          <a:xfrm>
            <a:off x="8005680" y="4011480"/>
            <a:ext cx="166680" cy="281160"/>
            <a:chOff x="8005680" y="4011480"/>
            <a:chExt cx="166680" cy="281160"/>
          </a:xfrm>
        </p:grpSpPr>
        <p:sp>
          <p:nvSpPr>
            <p:cNvPr id="412" name="Oval 13"/>
            <p:cNvSpPr/>
            <p:nvPr/>
          </p:nvSpPr>
          <p:spPr>
            <a:xfrm>
              <a:off x="8005680" y="4011480"/>
              <a:ext cx="166680" cy="281160"/>
            </a:xfrm>
            <a:prstGeom prst="ellipse">
              <a:avLst/>
            </a:prstGeom>
            <a:noFill/>
            <a:ln w="360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13" name="Oval 8"/>
          <p:cNvSpPr/>
          <p:nvPr/>
        </p:nvSpPr>
        <p:spPr>
          <a:xfrm>
            <a:off x="6372360" y="220968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0" y="765000"/>
            <a:ext cx="8893080" cy="1727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rcRect l="28351" t="13408" r="29350" b="11717"/>
          <a:stretch/>
        </p:blipFill>
        <p:spPr>
          <a:xfrm>
            <a:off x="1547640" y="0"/>
            <a:ext cx="61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572000" y="3699000"/>
            <a:ext cx="4572000" cy="3159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ferragin\Desktop\My Dropbox\Anonimo.png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64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ferragin\Desktop\My Dropbox\Anonimo2.png"/>
          <p:cNvPicPr/>
          <p:nvPr/>
        </p:nvPicPr>
        <p:blipFill>
          <a:blip r:embed="rId4"/>
          <a:stretch/>
        </p:blipFill>
        <p:spPr>
          <a:xfrm>
            <a:off x="0" y="3573360"/>
            <a:ext cx="4572000" cy="328464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7"/>
          <p:cNvGrpSpPr/>
          <p:nvPr/>
        </p:nvGrpSpPr>
        <p:grpSpPr>
          <a:xfrm>
            <a:off x="14400" y="3686040"/>
            <a:ext cx="4376520" cy="3164040"/>
            <a:chOff x="14400" y="3686040"/>
            <a:chExt cx="4376520" cy="3164040"/>
          </a:xfrm>
        </p:grpSpPr>
        <p:sp>
          <p:nvSpPr>
            <p:cNvPr id="117" name="Freeform 5"/>
            <p:cNvSpPr/>
            <p:nvPr/>
          </p:nvSpPr>
          <p:spPr>
            <a:xfrm>
              <a:off x="14400" y="3686040"/>
              <a:ext cx="4376520" cy="3156120"/>
            </a:xfrm>
            <a:custGeom>
              <a:avLst/>
              <a:gdLst>
                <a:gd name="textAreaLeft" fmla="*/ 0 w 4376520"/>
                <a:gd name="textAreaRight" fmla="*/ 4376880 w 4376520"/>
                <a:gd name="textAreaTop" fmla="*/ 0 h 3156120"/>
                <a:gd name="textAreaBottom" fmla="*/ 3156480 h 3156120"/>
              </a:gdLst>
              <a:ahLst/>
              <a:rect l="textAreaLeft" t="textAreaTop" r="textAreaRight" b="textAreaBottom"/>
              <a:pathLst>
                <a:path w="4376673" h="3156080">
                  <a:moveTo>
                    <a:pt x="0" y="0"/>
                  </a:moveTo>
                  <a:cubicBezTo>
                    <a:pt x="348343" y="62895"/>
                    <a:pt x="705164" y="89737"/>
                    <a:pt x="1045029" y="188685"/>
                  </a:cubicBezTo>
                  <a:cubicBezTo>
                    <a:pt x="1101731" y="205193"/>
                    <a:pt x="1096317" y="302902"/>
                    <a:pt x="1146629" y="333828"/>
                  </a:cubicBezTo>
                  <a:cubicBezTo>
                    <a:pt x="1628234" y="629860"/>
                    <a:pt x="2133600" y="885371"/>
                    <a:pt x="2627086" y="1161142"/>
                  </a:cubicBezTo>
                  <a:cubicBezTo>
                    <a:pt x="2598057" y="1204685"/>
                    <a:pt x="2576326" y="1254100"/>
                    <a:pt x="2540000" y="1291771"/>
                  </a:cubicBezTo>
                  <a:cubicBezTo>
                    <a:pt x="1405495" y="2468295"/>
                    <a:pt x="2120804" y="1656809"/>
                    <a:pt x="1741715" y="2090057"/>
                  </a:cubicBezTo>
                  <a:cubicBezTo>
                    <a:pt x="1862892" y="2393004"/>
                    <a:pt x="1779009" y="2238431"/>
                    <a:pt x="2510972" y="2380342"/>
                  </a:cubicBezTo>
                  <a:cubicBezTo>
                    <a:pt x="2822428" y="2440726"/>
                    <a:pt x="3443086" y="2444648"/>
                    <a:pt x="3773715" y="2452914"/>
                  </a:cubicBezTo>
                  <a:cubicBezTo>
                    <a:pt x="3807582" y="2472266"/>
                    <a:pt x="3843913" y="2487833"/>
                    <a:pt x="3875315" y="2510971"/>
                  </a:cubicBezTo>
                  <a:cubicBezTo>
                    <a:pt x="3990561" y="2595889"/>
                    <a:pt x="4065659" y="2654039"/>
                    <a:pt x="4136572" y="2772228"/>
                  </a:cubicBezTo>
                  <a:cubicBezTo>
                    <a:pt x="4151086" y="2796419"/>
                    <a:pt x="4161892" y="2823264"/>
                    <a:pt x="4180115" y="2844800"/>
                  </a:cubicBezTo>
                  <a:cubicBezTo>
                    <a:pt x="4215472" y="2886585"/>
                    <a:pt x="4296229" y="2960914"/>
                    <a:pt x="4296229" y="2960914"/>
                  </a:cubicBezTo>
                  <a:cubicBezTo>
                    <a:pt x="4305905" y="2980266"/>
                    <a:pt x="4317660" y="2998712"/>
                    <a:pt x="4325257" y="3018971"/>
                  </a:cubicBezTo>
                  <a:cubicBezTo>
                    <a:pt x="4376673" y="3156080"/>
                    <a:pt x="4312262" y="3022005"/>
                    <a:pt x="4354286" y="310605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28800" y="3823920"/>
              <a:ext cx="4151160" cy="3026160"/>
            </a:xfrm>
            <a:custGeom>
              <a:avLst/>
              <a:gdLst>
                <a:gd name="textAreaLeft" fmla="*/ 0 w 4151160"/>
                <a:gd name="textAreaRight" fmla="*/ 4151520 w 415116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4151085" h="3025953">
                  <a:moveTo>
                    <a:pt x="4151085" y="6981"/>
                  </a:moveTo>
                  <a:cubicBezTo>
                    <a:pt x="3688925" y="48998"/>
                    <a:pt x="3894476" y="0"/>
                    <a:pt x="3236685" y="645610"/>
                  </a:cubicBezTo>
                  <a:cubicBezTo>
                    <a:pt x="3201472" y="680170"/>
                    <a:pt x="3217333" y="742372"/>
                    <a:pt x="3207657" y="790753"/>
                  </a:cubicBezTo>
                  <a:cubicBezTo>
                    <a:pt x="3200657" y="867752"/>
                    <a:pt x="3208174" y="953743"/>
                    <a:pt x="3164114" y="1022981"/>
                  </a:cubicBezTo>
                  <a:cubicBezTo>
                    <a:pt x="3075444" y="1162320"/>
                    <a:pt x="3117225" y="1065608"/>
                    <a:pt x="3004457" y="1168124"/>
                  </a:cubicBezTo>
                  <a:cubicBezTo>
                    <a:pt x="2785625" y="1367063"/>
                    <a:pt x="3148146" y="1129058"/>
                    <a:pt x="2757714" y="1356810"/>
                  </a:cubicBezTo>
                  <a:cubicBezTo>
                    <a:pt x="2588381" y="1347134"/>
                    <a:pt x="2418358" y="1345850"/>
                    <a:pt x="2249714" y="1327781"/>
                  </a:cubicBezTo>
                  <a:cubicBezTo>
                    <a:pt x="2146876" y="1316763"/>
                    <a:pt x="2048323" y="1271639"/>
                    <a:pt x="1944914" y="1269724"/>
                  </a:cubicBezTo>
                  <a:cubicBezTo>
                    <a:pt x="1784626" y="1266756"/>
                    <a:pt x="1625599" y="1298753"/>
                    <a:pt x="1465942" y="1313267"/>
                  </a:cubicBezTo>
                  <a:lnTo>
                    <a:pt x="928914" y="1893839"/>
                  </a:lnTo>
                  <a:cubicBezTo>
                    <a:pt x="880083" y="1947109"/>
                    <a:pt x="778560" y="2062180"/>
                    <a:pt x="740228" y="2126067"/>
                  </a:cubicBezTo>
                  <a:cubicBezTo>
                    <a:pt x="540024" y="2459739"/>
                    <a:pt x="777201" y="2141861"/>
                    <a:pt x="537028" y="2474410"/>
                  </a:cubicBezTo>
                  <a:cubicBezTo>
                    <a:pt x="514904" y="2505043"/>
                    <a:pt x="486619" y="2530891"/>
                    <a:pt x="464457" y="2561496"/>
                  </a:cubicBezTo>
                  <a:cubicBezTo>
                    <a:pt x="384954" y="2671286"/>
                    <a:pt x="365149" y="2868740"/>
                    <a:pt x="232228" y="2895324"/>
                  </a:cubicBezTo>
                  <a:lnTo>
                    <a:pt x="87085" y="2924353"/>
                  </a:lnTo>
                  <a:cubicBezTo>
                    <a:pt x="77409" y="2938867"/>
                    <a:pt x="69224" y="2954495"/>
                    <a:pt x="58057" y="2967896"/>
                  </a:cubicBezTo>
                  <a:cubicBezTo>
                    <a:pt x="44916" y="2983665"/>
                    <a:pt x="29028" y="2996925"/>
                    <a:pt x="14514" y="3011439"/>
                  </a:cubicBezTo>
                  <a:lnTo>
                    <a:pt x="0" y="30259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4643280" y="3720960"/>
            <a:ext cx="4376880" cy="3164040"/>
            <a:chOff x="4643280" y="3720960"/>
            <a:chExt cx="4376880" cy="3164040"/>
          </a:xfrm>
        </p:grpSpPr>
        <p:sp>
          <p:nvSpPr>
            <p:cNvPr id="120" name="Freeform 9"/>
            <p:cNvSpPr/>
            <p:nvPr/>
          </p:nvSpPr>
          <p:spPr>
            <a:xfrm>
              <a:off x="4643280" y="3720960"/>
              <a:ext cx="4376880" cy="3156120"/>
            </a:xfrm>
            <a:custGeom>
              <a:avLst/>
              <a:gdLst>
                <a:gd name="textAreaLeft" fmla="*/ 0 w 4376880"/>
                <a:gd name="textAreaRight" fmla="*/ 4377240 w 4376880"/>
                <a:gd name="textAreaTop" fmla="*/ 0 h 3156120"/>
                <a:gd name="textAreaBottom" fmla="*/ 3156480 h 3156120"/>
              </a:gdLst>
              <a:ahLst/>
              <a:rect l="textAreaLeft" t="textAreaTop" r="textAreaRight" b="textAreaBottom"/>
              <a:pathLst>
                <a:path w="4376673" h="3156080">
                  <a:moveTo>
                    <a:pt x="0" y="0"/>
                  </a:moveTo>
                  <a:cubicBezTo>
                    <a:pt x="348343" y="62895"/>
                    <a:pt x="705164" y="89737"/>
                    <a:pt x="1045029" y="188685"/>
                  </a:cubicBezTo>
                  <a:cubicBezTo>
                    <a:pt x="1101731" y="205193"/>
                    <a:pt x="1096317" y="302902"/>
                    <a:pt x="1146629" y="333828"/>
                  </a:cubicBezTo>
                  <a:cubicBezTo>
                    <a:pt x="1628234" y="629860"/>
                    <a:pt x="2133600" y="885371"/>
                    <a:pt x="2627086" y="1161142"/>
                  </a:cubicBezTo>
                  <a:cubicBezTo>
                    <a:pt x="2598057" y="1204685"/>
                    <a:pt x="2576326" y="1254100"/>
                    <a:pt x="2540000" y="1291771"/>
                  </a:cubicBezTo>
                  <a:cubicBezTo>
                    <a:pt x="1405495" y="2468295"/>
                    <a:pt x="2120804" y="1656809"/>
                    <a:pt x="1741715" y="2090057"/>
                  </a:cubicBezTo>
                  <a:cubicBezTo>
                    <a:pt x="1862892" y="2393004"/>
                    <a:pt x="1779009" y="2238431"/>
                    <a:pt x="2510972" y="2380342"/>
                  </a:cubicBezTo>
                  <a:cubicBezTo>
                    <a:pt x="2822428" y="2440726"/>
                    <a:pt x="3443086" y="2444648"/>
                    <a:pt x="3773715" y="2452914"/>
                  </a:cubicBezTo>
                  <a:cubicBezTo>
                    <a:pt x="3807582" y="2472266"/>
                    <a:pt x="3843913" y="2487833"/>
                    <a:pt x="3875315" y="2510971"/>
                  </a:cubicBezTo>
                  <a:cubicBezTo>
                    <a:pt x="3990561" y="2595889"/>
                    <a:pt x="4065659" y="2654039"/>
                    <a:pt x="4136572" y="2772228"/>
                  </a:cubicBezTo>
                  <a:cubicBezTo>
                    <a:pt x="4151086" y="2796419"/>
                    <a:pt x="4161892" y="2823264"/>
                    <a:pt x="4180115" y="2844800"/>
                  </a:cubicBezTo>
                  <a:cubicBezTo>
                    <a:pt x="4215472" y="2886585"/>
                    <a:pt x="4296229" y="2960914"/>
                    <a:pt x="4296229" y="2960914"/>
                  </a:cubicBezTo>
                  <a:cubicBezTo>
                    <a:pt x="4305905" y="2980266"/>
                    <a:pt x="4317660" y="2998712"/>
                    <a:pt x="4325257" y="3018971"/>
                  </a:cubicBezTo>
                  <a:cubicBezTo>
                    <a:pt x="4376673" y="3156080"/>
                    <a:pt x="4312262" y="3022005"/>
                    <a:pt x="4354286" y="310605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Freeform 10"/>
            <p:cNvSpPr/>
            <p:nvPr/>
          </p:nvSpPr>
          <p:spPr>
            <a:xfrm>
              <a:off x="4657680" y="3858840"/>
              <a:ext cx="4151520" cy="3026160"/>
            </a:xfrm>
            <a:custGeom>
              <a:avLst/>
              <a:gdLst>
                <a:gd name="textAreaLeft" fmla="*/ 0 w 4151520"/>
                <a:gd name="textAreaRight" fmla="*/ 4151880 w 41515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4151085" h="3025953">
                  <a:moveTo>
                    <a:pt x="4151085" y="6981"/>
                  </a:moveTo>
                  <a:cubicBezTo>
                    <a:pt x="3688925" y="48998"/>
                    <a:pt x="3894476" y="0"/>
                    <a:pt x="3236685" y="645610"/>
                  </a:cubicBezTo>
                  <a:cubicBezTo>
                    <a:pt x="3201472" y="680170"/>
                    <a:pt x="3217333" y="742372"/>
                    <a:pt x="3207657" y="790753"/>
                  </a:cubicBezTo>
                  <a:cubicBezTo>
                    <a:pt x="3200657" y="867752"/>
                    <a:pt x="3208174" y="953743"/>
                    <a:pt x="3164114" y="1022981"/>
                  </a:cubicBezTo>
                  <a:cubicBezTo>
                    <a:pt x="3075444" y="1162320"/>
                    <a:pt x="3117225" y="1065608"/>
                    <a:pt x="3004457" y="1168124"/>
                  </a:cubicBezTo>
                  <a:cubicBezTo>
                    <a:pt x="2785625" y="1367063"/>
                    <a:pt x="3148146" y="1129058"/>
                    <a:pt x="2757714" y="1356810"/>
                  </a:cubicBezTo>
                  <a:cubicBezTo>
                    <a:pt x="2588381" y="1347134"/>
                    <a:pt x="2418358" y="1345850"/>
                    <a:pt x="2249714" y="1327781"/>
                  </a:cubicBezTo>
                  <a:cubicBezTo>
                    <a:pt x="2146876" y="1316763"/>
                    <a:pt x="2048323" y="1271639"/>
                    <a:pt x="1944914" y="1269724"/>
                  </a:cubicBezTo>
                  <a:cubicBezTo>
                    <a:pt x="1784626" y="1266756"/>
                    <a:pt x="1625599" y="1298753"/>
                    <a:pt x="1465942" y="1313267"/>
                  </a:cubicBezTo>
                  <a:lnTo>
                    <a:pt x="928914" y="1893839"/>
                  </a:lnTo>
                  <a:cubicBezTo>
                    <a:pt x="880083" y="1947109"/>
                    <a:pt x="778560" y="2062180"/>
                    <a:pt x="740228" y="2126067"/>
                  </a:cubicBezTo>
                  <a:cubicBezTo>
                    <a:pt x="540024" y="2459739"/>
                    <a:pt x="777201" y="2141861"/>
                    <a:pt x="537028" y="2474410"/>
                  </a:cubicBezTo>
                  <a:cubicBezTo>
                    <a:pt x="514904" y="2505043"/>
                    <a:pt x="486619" y="2530891"/>
                    <a:pt x="464457" y="2561496"/>
                  </a:cubicBezTo>
                  <a:cubicBezTo>
                    <a:pt x="384954" y="2671286"/>
                    <a:pt x="365149" y="2868740"/>
                    <a:pt x="232228" y="2895324"/>
                  </a:cubicBezTo>
                  <a:lnTo>
                    <a:pt x="87085" y="2924353"/>
                  </a:lnTo>
                  <a:cubicBezTo>
                    <a:pt x="77409" y="2938867"/>
                    <a:pt x="69224" y="2954495"/>
                    <a:pt x="58057" y="2967896"/>
                  </a:cubicBezTo>
                  <a:cubicBezTo>
                    <a:pt x="44916" y="2983665"/>
                    <a:pt x="29028" y="2996925"/>
                    <a:pt x="14514" y="3011439"/>
                  </a:cubicBezTo>
                  <a:lnTo>
                    <a:pt x="0" y="30259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2" name="Rounded Rectangle 11"/>
          <p:cNvSpPr/>
          <p:nvPr/>
        </p:nvSpPr>
        <p:spPr>
          <a:xfrm>
            <a:off x="6227640" y="4797360"/>
            <a:ext cx="1729080" cy="792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2009-1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Rounded Rectangle 12"/>
          <p:cNvSpPr/>
          <p:nvPr/>
        </p:nvSpPr>
        <p:spPr>
          <a:xfrm>
            <a:off x="1619280" y="4653000"/>
            <a:ext cx="1728720" cy="792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rcRect l="10813" t="11627" r="12369" b="53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7749" t="17425" r="25297" b="7340"/>
          <a:stretch/>
        </p:blipFill>
        <p:spPr>
          <a:xfrm>
            <a:off x="0" y="0"/>
            <a:ext cx="5500800" cy="6786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rcRect l="17455" t="19907" r="25592" b="7236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rcRect l="16717" t="19113" r="24854" b="8816"/>
          <a:stretch/>
        </p:blipFill>
        <p:spPr>
          <a:xfrm>
            <a:off x="0" y="0"/>
            <a:ext cx="595296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4"/>
          <a:srcRect l="17455" t="19113" r="24854" b="8026"/>
          <a:stretch/>
        </p:blipFill>
        <p:spPr>
          <a:xfrm>
            <a:off x="3328920" y="0"/>
            <a:ext cx="581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3-10-31T15:20:28Z</dcterms:modified>
  <cp:revision>1189</cp:revision>
  <dc:subject/>
  <dc:title>Web Algorithmics</dc:title>
</cp:coreProperties>
</file>